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873C-664D-4A57-87DA-C831B9004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ed.umich.edu/lrc/coursepages/m1/embryology/embryo/08nervoussystem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tc.usf.edu/clipart/15500/15556/cerebrum_15556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morphonix.com/software/education/science/brain/game/specimens/cerebral_cortex_lob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neuroskeptic.blogspot.ca/2011/02/boy-without-cerebellumhas-no-cerebellum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ed.umich.edu/lrc/coursepages/m1/embryology/embryo/08nervoussystem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regnantteens.wordpress.com/research/adolescent-brain-development/anatomy-of-the-brai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acceleratedcure.org/msresources/neuroanatomy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Human_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rainhealthandpuzzles.com/diagram_of_brai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C9F3-AC53-4E88-A8EF-C6D20CD74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35C9-B339-4393-8C91-F34E341D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3738-4696-44E9-B787-6FB52067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C3BC-EDAA-461D-8BA4-728C362B3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8101-55DC-4012-ABD3-02AE5131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47A5-3081-42CE-B346-1261BFA2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1A9F-25BF-468B-9BEE-8907BC28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09FF-2C80-4CD4-970F-91933A63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814B-E4D2-4388-AACA-CF8E0120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B9A6-6B3D-4BB4-847F-ED6F3364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3310-AECA-4C99-AD25-EE720DE1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B4D0-5919-41E4-B066-628DE637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9BAF-1A26-4D34-BAD4-3C01A2DB3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ntral Nervou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87720" y="609480"/>
            <a:ext cx="4768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720720"/>
            <a:ext cx="777240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rebral Cort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85800" y="1981080"/>
          <a:ext cx="7772400" cy="4119840"/>
        </p:xfrm>
        <a:graphic>
          <a:graphicData uri="http://schemas.openxmlformats.org/drawingml/2006/table">
            <a:tbl>
              <a:tblPr/>
              <a:tblGrid>
                <a:gridCol w="3200400"/>
                <a:gridCol w="45720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ntal lob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 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, persona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ietal lob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ory 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te, langu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oral lob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al recogn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ory, langu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cipital lob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 associ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rebel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e tunes body’s m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s posture, gait &amp; direction of m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2438280"/>
            <a:ext cx="3809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Brain Barr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llaries in brain have tight junctions between epithelial cells (i.e. most dissolved substances do not enter the CS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alamus &amp; pineal gland are not behind blood-brain b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Brain Barr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gen, carbon dioxide, alcohol, caffeine, nicotine move directly across the lipid bi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selective transport proteins move substances such as glucose into th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Left Brai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? </a:t>
            </a: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Right B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spoken &amp; written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abstract 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precise mathematical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nonverbal conceptuali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intui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musical &amp; artistic 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spatial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yonic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59080" y="1981080"/>
            <a:ext cx="6224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NS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 and spinal cord are surrounded by 3 layers of connective tissue called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ni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ebrospinal flu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rrounds the meninges, and is within the central canal of the spinal cord &amp; the ventricles of th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NS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where cell bodies and dendrites are lo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mostly ax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inal 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ferent nerv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rive through the dorsal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rent nerv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t through the ventral roo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48320" y="2809800"/>
            <a:ext cx="38098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102120" y="1981080"/>
            <a:ext cx="2939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dulla (oblongat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involuntary behaviours (breathing, digestion, heart rate, blood pressure);  forms the brain stem with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he mid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ebell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motor reponses, balance, fine motor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55800" y="609480"/>
            <a:ext cx="7230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reb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developed part of th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s most of the sensory and motor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ebral cort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in layer of grey matter that surrounds cerebrum;  large surface area, divided into left hemisphere and right hemisp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5T10:27:34Z</dcterms:created>
  <dc:creator>rubina khan</dc:creator>
  <dc:description/>
  <dc:language>en-US</dc:language>
  <cp:lastModifiedBy>rubina khan</cp:lastModifiedBy>
  <dcterms:modified xsi:type="dcterms:W3CDTF">2012-06-05T11:22:44Z</dcterms:modified>
  <cp:revision>37</cp:revision>
  <dc:subject/>
  <dc:title>The Central Nervous System</dc:title>
</cp:coreProperties>
</file>